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AU" sz="1200" spc="-1" strike="noStrike">
                <a:solidFill>
                  <a:srgbClr val="1b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A1A6B18-F338-49EE-B50D-935904DB4804}" type="slidenum">
              <a:rPr b="1" lang="en-AU" sz="1200" spc="-1" strike="noStrike">
                <a:solidFill>
                  <a:srgbClr val="1b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 list up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ff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pic>
        <p:nvPicPr>
          <p:cNvPr id="2" name="Picture 4" descr="paint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The Burden of Disease, Injury and Risk Factors </a:t>
            </a:r>
            <a:br>
              <a:rPr sz="4400"/>
            </a:br>
            <a:br>
              <a:rPr sz="4400"/>
            </a:b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ew Zealand 2006 - 2016</a:t>
            </a:r>
            <a:br>
              <a:rPr sz="24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00720" y="5300280"/>
            <a:ext cx="1285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6934320" y="5867280"/>
          <a:ext cx="1904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867280"/>
                    <a:ext cx="1904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5"/>
          <p:cNvSpPr/>
          <p:nvPr/>
        </p:nvSpPr>
        <p:spPr>
          <a:xfrm>
            <a:off x="7620120" y="65530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ffffff"/>
                </a:solidFill>
                <a:latin typeface="Times New Roman Mäori"/>
              </a:rPr>
              <a:t>MANATÜ HAUORA</a:t>
            </a:r>
            <a:endParaRPr b="0" lang="en-US" sz="900" spc="-1" strike="noStrike">
              <a:solidFill>
                <a:srgbClr val="1b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68200" y="5589720"/>
            <a:ext cx="16398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LD: incidence vs prevalence perspectiv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60128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bffff"/>
                </a:solidFill>
                <a:latin typeface="Arial"/>
              </a:rPr>
              <a:t>Incidence perspective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aptures only the nonfatal burden resulting from incident cases in reference year (cohort approach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D = I x D x DW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here I = incident cases of condition in cell, D = duration (survival before recovery or death), DW = disability weight (preference for health stat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bffff"/>
                </a:solidFill>
                <a:latin typeface="Arial"/>
              </a:rPr>
              <a:t>Prevalence perspective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aptures the nonfatal burden arising from all prevalent cases alive in reference year (irrespective of when they were incident) (cross sectional approach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D = P x DW   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here P = prevalent cases in cell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ovided duration is short, both yield similar YLD values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( since  P = I x D    if D is short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Incidence perspective better suited to CEA, prevalence perspective better suited to health need analysis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ondition may involve multiple health states  - YLD calculated for each separately, then summed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DISMOD epi softwa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371600" y="1700280"/>
            <a:ext cx="6655680" cy="4980600"/>
            <a:chOff x="1371600" y="1700280"/>
            <a:chExt cx="6655680" cy="4980600"/>
          </a:xfrm>
        </p:grpSpPr>
        <p:sp>
          <p:nvSpPr>
            <p:cNvPr id="72" name="Rectangle 4"/>
            <p:cNvSpPr/>
            <p:nvPr/>
          </p:nvSpPr>
          <p:spPr>
            <a:xfrm>
              <a:off x="1371600" y="4606200"/>
              <a:ext cx="2142360" cy="16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2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(eg diseased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830600" y="3314880"/>
              <a:ext cx="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 flipV="1">
              <a:off x="2978280" y="3314520"/>
              <a:ext cx="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5808960" y="2588400"/>
              <a:ext cx="2218320" cy="19371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ad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371600" y="1700280"/>
              <a:ext cx="2142360" cy="16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1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(eg not diseased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3513960" y="2426760"/>
              <a:ext cx="2295000" cy="64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 flipV="1">
              <a:off x="3513960" y="4121640"/>
              <a:ext cx="2371320" cy="1049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V="1">
              <a:off x="3513960" y="4525560"/>
              <a:ext cx="283032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4316760" y="4283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646880" y="52084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1562040" y="3637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3055680" y="3637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4586040" y="22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1661400" y="622116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duration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</p:grpSp>
      <p:sp>
        <p:nvSpPr>
          <p:cNvPr id="86" name="Text Box 18"/>
          <p:cNvSpPr/>
          <p:nvPr/>
        </p:nvSpPr>
        <p:spPr>
          <a:xfrm>
            <a:off x="611280" y="45403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 rot="16201800">
            <a:off x="-225000" y="52268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imes New Roman"/>
              </a:rPr>
              <a:t>Prevalence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ability weigh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Preference for being in health state – ‘disability severity’ metric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Measurement strategies: standard gamble, person trade-off (PTO), time trade-off (TTO) </a:t>
            </a: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0 – 1 scale (full health =0, dead = 1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Stable over duration of health state (separate DW for each health state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urrent values derived from GBDS 2004 (mainly based on Dutch focus group study, using PTO) – may vary by age and sex but nothing els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Will substitute values from current GBDS when available (mainly based on internet survey of 50 000 people, plus 6 country surveys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omorbidity adjustment (YLD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eople often experience more than one condition simultaneously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isability will typically be less than sum of disabilities from each condition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Simple model is applied to adjust DW downward: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Wc = 1 - </a:t>
            </a:r>
            <a:r>
              <a:rPr b="0" lang="el-GR" sz="2400" spc="-1" strike="noStrike">
                <a:solidFill>
                  <a:srgbClr val="1bffff"/>
                </a:solidFill>
                <a:latin typeface="Arial"/>
                <a:ea typeface="Arial"/>
              </a:rPr>
              <a:t>Π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(1- DWi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Note independence assumption – we have shown this is reasonable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fe43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fe43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fe4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The art of YLD measure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ndition model (outcome tree) – ‘sequelae’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Prevalence (or incidence and duration) by 5 year age group, sex, ethnicity – may need to use DISMOD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Distribution of cases across sequela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Severity distribution by sequela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DWs for each severity level of each sequela (= health state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nsistent thresholds and case definitions for all nonfatal health states and their DW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counterfactual modelling approac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95280" y="1685880"/>
            <a:ext cx="331308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isk factor exposure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rrent distribution (2006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unterfactual distribution (TMRED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140360" y="1700280"/>
            <a:ext cx="4679640" cy="10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isk factor – disease relationship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Hazard ratio or relative risk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96000" y="4229280"/>
            <a:ext cx="30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tal disease burde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567160" y="5589720"/>
            <a:ext cx="4319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tributable burden in 2006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0" name="Down Arrow 18"/>
          <p:cNvSpPr/>
          <p:nvPr/>
        </p:nvSpPr>
        <p:spPr>
          <a:xfrm>
            <a:off x="6300720" y="5153040"/>
            <a:ext cx="347760" cy="395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2050920" y="4221000"/>
            <a:ext cx="273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tential impact fractio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2" name="Down Arrow 20"/>
          <p:cNvSpPr/>
          <p:nvPr/>
        </p:nvSpPr>
        <p:spPr>
          <a:xfrm>
            <a:off x="3132000" y="5153040"/>
            <a:ext cx="347760" cy="395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3" name="Down Arrow 21"/>
          <p:cNvSpPr/>
          <p:nvPr/>
        </p:nvSpPr>
        <p:spPr>
          <a:xfrm>
            <a:off x="2217600" y="3716280"/>
            <a:ext cx="349560" cy="3970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4" name="Down Arrow 22"/>
          <p:cNvSpPr/>
          <p:nvPr/>
        </p:nvSpPr>
        <p:spPr>
          <a:xfrm>
            <a:off x="4270320" y="2852640"/>
            <a:ext cx="301680" cy="1224000"/>
          </a:xfrm>
          <a:prstGeom prst="downArrow">
            <a:avLst>
              <a:gd name="adj1" fmla="val 50000"/>
              <a:gd name="adj2" fmla="val 49908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PIF mod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Content Placeholder 1"/>
          <p:cNvGraphicFramePr/>
          <p:nvPr/>
        </p:nvGraphicFramePr>
        <p:xfrm>
          <a:off x="1692360" y="4005360"/>
          <a:ext cx="4761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Content Placeholder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05360"/>
                    <a:ext cx="47610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"/>
          <p:cNvSpPr/>
          <p:nvPr/>
        </p:nvSpPr>
        <p:spPr>
          <a:xfrm>
            <a:off x="539640" y="1557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tential impact fraction = proportional </a:t>
            </a: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reduction in burden that would occur if exposure to a risk factor were reduced to the theoretical minimum risk exposure distributio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Attributable burden  =  total burden of linked condition x PIF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TMR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" name="Content Placeholder 3"/>
          <p:cNvGraphicFramePr/>
          <p:nvPr/>
        </p:nvGraphicFramePr>
        <p:xfrm>
          <a:off x="826920" y="1557360"/>
          <a:ext cx="7274160" cy="489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2741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Hazard rati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Content Placeholder 3"/>
          <p:cNvGraphicFramePr/>
          <p:nvPr/>
        </p:nvGraphicFramePr>
        <p:xfrm>
          <a:off x="611280" y="1413000"/>
          <a:ext cx="7561080" cy="525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56108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523880"/>
            <a:ext cx="885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NZBDS: Objectives 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and Method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ontext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ZBDS: objectives and method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ZBDS: key results (provisional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venance of the NZBDS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MRG report 2010: more needs-driven, better priority setting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Approved by ELT and Minister of Health mid 2010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Work commenced September 2010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Two year time fram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Small core team (with 1 person seconded from ACC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Project Advisory Group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Clinical advisors (including advisors from ACC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Link to BOD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cific objective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Generate an internally consistent set of epidemiological estimates for a comprehensive set of ~220 condition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Using this database, estimate the burden of disease and injury (in DALYs) in 2006, for Maori and non-Maori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roject the burden (at condition group level) to 2011 and 2016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Estimate the burden attributable to major biological and behavioural risk factors in 2006 and project to 2016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ZBDS methodology: 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ondition selection and classification: 16 Level I categories including Injury, 217 Level II conditions, ~600 sequelae (health state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Reference year is 2006 (in principl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YLL: redistribution of implausible and inadequately specified causes of death (5 different redistribution algorithm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YLD: data from  NZ Health Tracker where possible, other data sources where necessary (disease registers, unlinked administrative data, health survey &amp; related surveys, research studie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evalence approach (I x D used where D &lt; 1 year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DISMOD for incidence to prevalence modelling and consistency checking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DWs from GBDS 2004 provisionally, adjusted for independent comorbidity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Uncertainty quantified by simulation, sensitivity analysis added where necessary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ojections (trend extrapolation for YLL, fixed relational model for YLD based on compression assumption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NZBDS methodology: CR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341360"/>
            <a:ext cx="932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Risk factor selection and classification: metabolic and physiological (SBP, TBC, FPG, BMI, 25(OH)D, osteoporosis); dietary (vegetable, fruit, sodium, saturated fat); behavioural (physical activity, tobacco use, alcohol use, illicit drug use, unsafe sex); adverse health care events; diseases as risk factors (diabetes, depression etc); injury ‘E’ codes as risk factors (eg transport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Counterfactual modelling (continuous or discrete risk factor distributions); direct estimation;  mixed model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Exposure distributions from Adult Nutrition Survey 2008/09 or other data sources (depending on the risk factor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TMREDs and HRs from GBDS or other sources (eg APCSC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Standard formula for joint risk factor distributions:   PIFc = 1 - </a:t>
            </a:r>
            <a:r>
              <a:rPr b="0" lang="el-GR" sz="1600" spc="-1" strike="noStrike">
                <a:solidFill>
                  <a:srgbClr val="1bffff"/>
                </a:solidFill>
                <a:latin typeface="Arial"/>
                <a:ea typeface="Arial"/>
              </a:rPr>
              <a:t>Π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(1- PIFi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Uncertainty quantification by simulation, plus sensitivty analysis where required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Projections mainly demographic (trend analysis for tobacco, TBC, BMI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KEY RESULT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1bffff"/>
                </a:solidFill>
                <a:latin typeface="Arial"/>
              </a:rPr>
              <a:t>(PROVISIONAL)</a:t>
            </a:r>
            <a:endParaRPr b="1" lang="en-US" sz="4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NEXT STEP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Strengths and weaknesses of study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Policy and research application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Strength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non-hospitalised injury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report injury burden from both a ‘cause of injury’ (E code) and a ‘nature of injury’ (N code) perspective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sleep disorder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chronic pain syndrome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stilbirths (albeit intrapartum only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adverse health care events (albeit in-hospital only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make systematic use of data linkage to estimate epi parameters (mainly prevalence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Improved analysis of infant conditions and birth defects, attributing health losses to ‘correct’ age group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Transparent assumptions underlying methods for GC redistribution, comorbidity adjustment, uncertainty quantification and burden projection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eaknesse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liance on ‘medical model’ –fails to capture wider welfare impac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Does not capture clinical workload impact or health sector cos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Modelling sometimes heavily assumption driven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conditions (or health states) and only selected risk factors included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epi data of high quality (eg 1.6% of injury deaths were ‘unknown intent’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DWs as robust as we would like (new GBDS weights may be better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imulation plus sensitivity analysis may not fully capture ‘model uncertainty’ (but our method conservative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Projections based on overly simplistic assumptions (but short-term only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otential policy applications for ACC and MOH </a:t>
            </a:r>
            <a:br>
              <a:rPr sz="2800"/>
            </a:b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– what DALYs tell u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Understand relative importance of injury / disease as a cause of health los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Guide needs-based investment decisions for injury prevention (E lens) and trauma care (N lens) – both wrt services and research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And similarly for different diseases – CRA (prevention), BDS (treatment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Understand equity issues in relation to injury / disease outcomes – and design policy accordingly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Monitor progress over time – and take corrective action accordingly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CONTEXT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hat DALYs don’t tell 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ALYs do not correlate strongly with clinical workload – not very useful for workforce planning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ALYs do not correlate strongly with costs to the health care system – not very useful for short-term budgeting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Burden of disease &amp; injury studies are only one tool for  analysing need (or demand) as an input into evidence-informed policy – not a panacea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mplete analytic phase, including substitution of ‘new’ for ‘old’ DW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Implement report writing / KT phas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regional / district level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other ethnic group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analysis by NZDep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time serie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Institutionalising the NZBDS: </a:t>
            </a:r>
            <a:br>
              <a:rPr sz="3200"/>
            </a:b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rom initial study to ongoing information syst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700280"/>
            <a:ext cx="8686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gular updating (and progressive improvement -  including comprehensiveness of risk factors, conditions and sequelae, extension to ethnic minorities, deprivation quintiles and DHBs, time series analysis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ubstitution of Tracker indicators for other data sources to the fullest extent possible (necessary to make updating cost effective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tabilisation of data sources, condition selection and classification, thresholds, case definitions, condition models, modelling and statistical methods, outpu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gular production of outputs (including updated epi tables and burden analyses) and application to surveillance, needs assessment, monitoring of unmet need / scope for health gain, monitoring of inequalities, inputting to CEA (priority setting - BODE) and resource allocation more genearall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MOH: Martin Tobias, Maria Turley, Terry Quirke, Ann Sears, Nadia Bartholomew, Michelle Liu, Li-Chia Yeh, Craig Wright, Anna Davies, Mishra Suryaprakash, Jane Wang, Jo Wall, Robert Templeton, Stephen Salzano, Kylie Mason, </a:t>
            </a:r>
            <a:r>
              <a:rPr b="0" lang="en-NZ" sz="1600" spc="-1" strike="noStrike">
                <a:solidFill>
                  <a:srgbClr val="ccecff"/>
                </a:solidFill>
                <a:latin typeface="Arial"/>
              </a:rPr>
              <a:t>Deepa Weerasekera, Lisa Lankshear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ACC: Zhi-Ling Zhang, John Wren, Zeeman Van Der Merwe, Charlotte Kieft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Collaborators: Don Schopflocher (University of Alberta), Barbara Hjalsted (NIPH, Denmark), Tony Blakely (BOD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More than 30 clinical  / epidemiological advisors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NZBDS Steering Group (project advisor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GBDS 2005 Steering Group (Chris Murray, Alan Lopez, Theo Vos, Majid Ezzati, Colin Mathers, Gretchen Stephen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Background to burden of disease studies (BDS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The DALY metric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Comparative risk assessment (CRA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a BD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Standardised framework for measuring health loss (‘nonfinancial health accounts’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Health loss estimated for a comprehensive set of disease, injury and risk factor cause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Fatal and nonfatal health losses integrated via the disability-adjusted life-year  (DALY) metric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Comprehensive and internally consistent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can you learn from a BD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stimates and projections of level and distribution of unmet need for health services (health need analysis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stimates of effectiveness for cost effectiveness analysis (priority setting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pidemiological estimates and projections for other studie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Identification of gaps in health information system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tory of 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Methodology developed early 1990s by Chris Murray (World Bank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First Global Burden of Disease Study (GBDS 1990) published 1996, second in 2004 (GBDS 2000), third currently in progress (GBDS 2005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More than 50 national BDS completed or in progress, including two Australian BDS, most recently 2003 (published 2007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revious NZBDS (1996 data, published 2001) – relied heavily on ABD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DALY (disability-adjusted lifeyear) metri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Time based health gap measure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Gap between population’s current state of health and that of an idealised population in which everyone lives long lives free from disabilit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Integrates fatal with nonfatal health outcomes - combines years of life lost to untimely death (YLL) with equivalent years of healthy life lost because of time lived in health states less than full health (YLD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Preference for nonfatal health states expressed on a 0 – 1 scale where 0 = full health and 1 = dead, 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So YLD is commensurate with YLL and the two can be summed: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DALY  =  YLL  +  YLD 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1 DALY  =  1 year of healthy life lost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DALY is a standardised, inverted QAL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L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Number of deaths from each cause in each subpopulation in reference year 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Multiplied by weight which varies with age but nothing els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Variation with age reflects preference to live long lif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eights are remaining life expectancies at each age taken from a reference lifetabl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Reference lifetable constructed by taking lowest mortality rate at each age already achieved by any national population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Formula: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L = </a:t>
            </a:r>
            <a:r>
              <a:rPr b="1" lang="el-GR" sz="1600" spc="-1" strike="noStrike">
                <a:solidFill>
                  <a:srgbClr val="1bffff"/>
                </a:solidFill>
                <a:latin typeface="Arial"/>
                <a:ea typeface="Arial"/>
              </a:rPr>
              <a:t>Σ</a:t>
            </a:r>
            <a:r>
              <a:rPr b="1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 (d x w)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     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where d = count of deaths from specified cause at  specified age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w = life expectancy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 remaining at that age (from reference lifetabl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56:02Z</dcterms:created>
  <dc:creator>Ministry of Health</dc:creator>
  <dc:description/>
  <dc:language>en-US</dc:language>
  <cp:lastModifiedBy>Emma Nuttall</cp:lastModifiedBy>
  <dcterms:modified xsi:type="dcterms:W3CDTF">2012-06-27T22:18:52Z</dcterms:modified>
  <cp:revision>623</cp:revision>
  <dc:subject/>
  <dc:title>Tobacco Policy Model</dc:title>
</cp:coreProperties>
</file>