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AU" sz="1200" spc="-1" strike="noStrike">
                <a:solidFill>
                  <a:srgbClr val="1b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208A763-B616-4BF5-96B1-7EEB4CBD363D}" type="slidenum">
              <a:rPr b="1" lang="en-AU" sz="1200" spc="-1" strike="noStrike">
                <a:solidFill>
                  <a:srgbClr val="1b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 list up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ff"/>
              </a:buClr>
              <a:buFont typeface="Comic Sans MS Mäo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 Mäo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 Mäo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pic>
        <p:nvPicPr>
          <p:cNvPr id="2" name="Picture 4" descr="paint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1844280"/>
            <a:ext cx="828036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AU" sz="4400" spc="-1" strike="noStrike">
                <a:solidFill>
                  <a:srgbClr val="ffff00"/>
                </a:solidFill>
                <a:latin typeface="Arial"/>
              </a:rPr>
              <a:t>The Burden of Disease, Injury and Risk Factors </a:t>
            </a:r>
            <a:br>
              <a:rPr sz="4400"/>
            </a:br>
            <a:br>
              <a:rPr sz="4400"/>
            </a:br>
            <a:r>
              <a:rPr b="1" lang="en-AU" sz="2400" spc="-1" strike="noStrike">
                <a:solidFill>
                  <a:srgbClr val="ffff00"/>
                </a:solidFill>
                <a:latin typeface="Arial"/>
              </a:rPr>
              <a:t>New Zealand 2006 - 2016</a:t>
            </a:r>
            <a:br>
              <a:rPr sz="2400"/>
            </a:br>
            <a:br>
              <a:rPr sz="2400"/>
            </a:br>
            <a:br>
              <a:rPr sz="2800"/>
            </a:b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100720" y="5300280"/>
            <a:ext cx="1285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</p:txBody>
      </p:sp>
      <p:graphicFrame>
        <p:nvGraphicFramePr>
          <p:cNvPr id="48" name="Object 4"/>
          <p:cNvGraphicFramePr/>
          <p:nvPr/>
        </p:nvGraphicFramePr>
        <p:xfrm>
          <a:off x="6934320" y="5867280"/>
          <a:ext cx="19047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5867280"/>
                    <a:ext cx="1904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 Box 5"/>
          <p:cNvSpPr/>
          <p:nvPr/>
        </p:nvSpPr>
        <p:spPr>
          <a:xfrm>
            <a:off x="7620120" y="6553080"/>
            <a:ext cx="1523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00" spc="-1" strike="noStrike">
                <a:solidFill>
                  <a:srgbClr val="ffffff"/>
                </a:solidFill>
                <a:latin typeface="Times New Roman Mäori"/>
              </a:rPr>
              <a:t>MANATÜ HAUORA</a:t>
            </a:r>
            <a:endParaRPr b="0" lang="en-US" sz="900" spc="-1" strike="noStrike">
              <a:solidFill>
                <a:srgbClr val="1bffff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268200" y="5589720"/>
            <a:ext cx="163980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LD: incidence vs prevalence perspectiv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601280"/>
            <a:ext cx="8686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bffff"/>
                </a:solidFill>
                <a:latin typeface="Arial"/>
              </a:rPr>
              <a:t>Incidence perspective 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captures only the nonfatal burden resulting from incident cases in reference year (cohort approach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bffff"/>
                </a:solidFill>
                <a:latin typeface="Arial"/>
              </a:rPr>
              <a:t>YLD = I x D x DW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where I = incident cases of condition in cell, D = duration (survival before recovery or death), DW = disability weight (preference for health state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bffff"/>
                </a:solidFill>
                <a:latin typeface="Arial"/>
              </a:rPr>
              <a:t>Prevalence perspective 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captures the nonfatal burden arising from all prevalent cases alive in reference year (irrespective of when they were incident) (cross sectional approach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bffff"/>
                </a:solidFill>
                <a:latin typeface="Arial"/>
              </a:rPr>
              <a:t>YLD = P x DW   </a:t>
            </a:r>
            <a:r>
              <a:rPr b="1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where P = prevalent cases in cell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Provided duration is short, both yield similar YLD values 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( since  P = I x D    if D is short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Incidence perspective better suited to CEA, prevalence perspective better suited to health need analysis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Condition may involve multiple health states  - YLD calculated for each separately, then summed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DISMOD epi softwa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1371600" y="1700280"/>
            <a:ext cx="6655680" cy="4980600"/>
            <a:chOff x="1371600" y="1700280"/>
            <a:chExt cx="6655680" cy="4980600"/>
          </a:xfrm>
        </p:grpSpPr>
        <p:sp>
          <p:nvSpPr>
            <p:cNvPr id="72" name="Rectangle 4"/>
            <p:cNvSpPr/>
            <p:nvPr/>
          </p:nvSpPr>
          <p:spPr>
            <a:xfrm>
              <a:off x="1371600" y="4606200"/>
              <a:ext cx="2142360" cy="1614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 2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(eg diseased)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1830600" y="3314880"/>
              <a:ext cx="0" cy="1291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 flipV="1">
              <a:off x="2978280" y="3314520"/>
              <a:ext cx="0" cy="1291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75" name="Oval 7"/>
            <p:cNvSpPr/>
            <p:nvPr/>
          </p:nvSpPr>
          <p:spPr>
            <a:xfrm>
              <a:off x="5808960" y="2588400"/>
              <a:ext cx="2218320" cy="193716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ad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76" name="Rectangle 8"/>
            <p:cNvSpPr/>
            <p:nvPr/>
          </p:nvSpPr>
          <p:spPr>
            <a:xfrm>
              <a:off x="1371600" y="1700280"/>
              <a:ext cx="2142360" cy="1614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ate 1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(eg not diseased)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77" name="Line 9"/>
            <p:cNvSpPr/>
            <p:nvPr/>
          </p:nvSpPr>
          <p:spPr>
            <a:xfrm>
              <a:off x="3513960" y="2426760"/>
              <a:ext cx="2295000" cy="64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 flipV="1">
              <a:off x="3513960" y="4121640"/>
              <a:ext cx="2371320" cy="1049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 flipV="1">
              <a:off x="3513960" y="4525560"/>
              <a:ext cx="2830320" cy="1291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80" name="Text Box 12"/>
            <p:cNvSpPr/>
            <p:nvPr/>
          </p:nvSpPr>
          <p:spPr>
            <a:xfrm>
              <a:off x="4316760" y="42836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81" name="Text Box 13"/>
            <p:cNvSpPr/>
            <p:nvPr/>
          </p:nvSpPr>
          <p:spPr>
            <a:xfrm>
              <a:off x="4646880" y="52084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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82" name="Text Box 14"/>
            <p:cNvSpPr/>
            <p:nvPr/>
          </p:nvSpPr>
          <p:spPr>
            <a:xfrm>
              <a:off x="1562040" y="363744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83" name="Text Box 15"/>
            <p:cNvSpPr/>
            <p:nvPr/>
          </p:nvSpPr>
          <p:spPr>
            <a:xfrm>
              <a:off x="3055680" y="36374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84" name="Text Box 16"/>
            <p:cNvSpPr/>
            <p:nvPr/>
          </p:nvSpPr>
          <p:spPr>
            <a:xfrm>
              <a:off x="4586040" y="2265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</p:txBody>
        </p:sp>
        <p:sp>
          <p:nvSpPr>
            <p:cNvPr id="85" name="Text Box 17"/>
            <p:cNvSpPr/>
            <p:nvPr/>
          </p:nvSpPr>
          <p:spPr>
            <a:xfrm>
              <a:off x="1661400" y="622116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duration)</a:t>
              </a:r>
              <a:endParaRPr b="0" lang="en-US" sz="2400" spc="-1" strike="noStrike">
                <a:solidFill>
                  <a:srgbClr val="1bffff"/>
                </a:solidFill>
                <a:latin typeface="Arial"/>
              </a:endParaRPr>
            </a:p>
          </p:txBody>
        </p:sp>
      </p:grpSp>
      <p:sp>
        <p:nvSpPr>
          <p:cNvPr id="86" name="Text Box 18"/>
          <p:cNvSpPr/>
          <p:nvPr/>
        </p:nvSpPr>
        <p:spPr>
          <a:xfrm>
            <a:off x="611280" y="4540320"/>
            <a:ext cx="76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96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 rot="16201800">
            <a:off x="-225000" y="52268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imes New Roman"/>
              </a:rPr>
              <a:t>Prevalence</a:t>
            </a: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sability weigh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Preference for being in health state – ‘disability severity’ metric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Measurement strategies: standard gamble, person trade-off (PTO), time trade-off (TTO) </a:t>
            </a: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0 – 1 scale (full health =0, dead = 1)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Stable over duration of health state (separate DW for each health state)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Current values derived from GBDS 2004 (mainly based on Dutch focus group study, using PTO) – may vary by age and sex but nothing else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Will substitute values from current GBDS when available (mainly based on internet survey of 50 000 people, plus 6 country surveys)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Comorbidity adjustment (YLDs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People often experience more than one condition simultaneously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Disability will typically be less than sum of disabilities from each condition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Simple model is applied to adjust DW downward: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DWc = 1 - </a:t>
            </a:r>
            <a:r>
              <a:rPr b="0" lang="el-GR" sz="2400" spc="-1" strike="noStrike">
                <a:solidFill>
                  <a:srgbClr val="1bffff"/>
                </a:solidFill>
                <a:latin typeface="Arial"/>
                <a:ea typeface="Arial"/>
              </a:rPr>
              <a:t>Π</a:t>
            </a: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(1- DWi)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Note independence assumption – we have shown this is reasonable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8fe43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fe43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fe4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The art of YLD measuremen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28280"/>
            <a:ext cx="8686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Condition model (outcome tree) – ‘sequelae’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Prevalence (or incidence and duration) by 5 year age group, sex, ethnicity – may need to use DISMOD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Distribution of cases across sequelae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Severity distribution by sequela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DWs for each severity level of each sequela (= health state)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Consistent thresholds and case definitions for all nonfatal health states and their DWs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CRA: counterfactual modelling approach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1484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395280" y="1685880"/>
            <a:ext cx="3313080" cy="16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isk factor exposure</a:t>
            </a: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urrent distribution (2006)</a:t>
            </a:r>
            <a:endParaRPr b="0" lang="en-US" sz="2000" spc="-1" strike="noStrike">
              <a:solidFill>
                <a:srgbClr val="1b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ounterfactual distribution (TMRED)</a:t>
            </a:r>
            <a:endParaRPr b="0" lang="en-US" sz="2000" spc="-1" strike="noStrike">
              <a:solidFill>
                <a:srgbClr val="1b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140360" y="1700280"/>
            <a:ext cx="4679640" cy="10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isk factor – disease relationship</a:t>
            </a: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(Hazard ratio or relative risk)</a:t>
            </a:r>
            <a:endParaRPr b="0" lang="en-US" sz="2000" spc="-1" strike="noStrike">
              <a:solidFill>
                <a:srgbClr val="1b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5796000" y="4229280"/>
            <a:ext cx="302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otal disease burden</a:t>
            </a: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2567160" y="5589720"/>
            <a:ext cx="4319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ttributable burden in 2006</a:t>
            </a: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100" name="Down Arrow 18"/>
          <p:cNvSpPr/>
          <p:nvPr/>
        </p:nvSpPr>
        <p:spPr>
          <a:xfrm>
            <a:off x="6300720" y="5153040"/>
            <a:ext cx="347760" cy="39528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101" name="TextBox 19"/>
          <p:cNvSpPr/>
          <p:nvPr/>
        </p:nvSpPr>
        <p:spPr>
          <a:xfrm>
            <a:off x="2050920" y="4221000"/>
            <a:ext cx="2737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otential impact fraction</a:t>
            </a: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102" name="Down Arrow 20"/>
          <p:cNvSpPr/>
          <p:nvPr/>
        </p:nvSpPr>
        <p:spPr>
          <a:xfrm>
            <a:off x="3132000" y="5153040"/>
            <a:ext cx="347760" cy="39528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103" name="Down Arrow 21"/>
          <p:cNvSpPr/>
          <p:nvPr/>
        </p:nvSpPr>
        <p:spPr>
          <a:xfrm>
            <a:off x="2217600" y="3716280"/>
            <a:ext cx="349560" cy="39708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ffff"/>
              </a:solidFill>
              <a:latin typeface="Arial"/>
            </a:endParaRPr>
          </a:p>
        </p:txBody>
      </p:sp>
      <p:sp>
        <p:nvSpPr>
          <p:cNvPr id="104" name="Down Arrow 22"/>
          <p:cNvSpPr/>
          <p:nvPr/>
        </p:nvSpPr>
        <p:spPr>
          <a:xfrm>
            <a:off x="4270320" y="2852640"/>
            <a:ext cx="301680" cy="1224000"/>
          </a:xfrm>
          <a:prstGeom prst="downArrow">
            <a:avLst>
              <a:gd name="adj1" fmla="val 50000"/>
              <a:gd name="adj2" fmla="val 49908"/>
            </a:avLst>
          </a:pr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CRA: PIF mod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6" name="Content Placeholder 1"/>
          <p:cNvGraphicFramePr/>
          <p:nvPr/>
        </p:nvGraphicFramePr>
        <p:xfrm>
          <a:off x="1692360" y="4005360"/>
          <a:ext cx="476100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Content Placeholder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4005360"/>
                    <a:ext cx="476100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2"/>
          <p:cNvSpPr/>
          <p:nvPr/>
        </p:nvSpPr>
        <p:spPr>
          <a:xfrm>
            <a:off x="539640" y="155736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otential impact fraction = proportional </a:t>
            </a: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reduction in burden that would occur if exposure to a risk factor were reduced to the theoretical minimum risk exposure distribution</a:t>
            </a: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Attributable burden  =  total burden of linked condition x PIF</a:t>
            </a: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CRA: TMRE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0" name="Content Placeholder 3"/>
          <p:cNvGraphicFramePr/>
          <p:nvPr/>
        </p:nvGraphicFramePr>
        <p:xfrm>
          <a:off x="826920" y="1557360"/>
          <a:ext cx="7274160" cy="489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1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2741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CRA: Hazard ratio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3" name="Content Placeholder 3"/>
          <p:cNvGraphicFramePr/>
          <p:nvPr/>
        </p:nvGraphicFramePr>
        <p:xfrm>
          <a:off x="611280" y="1413000"/>
          <a:ext cx="7561080" cy="525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56108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8000" y="1523880"/>
            <a:ext cx="885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b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1bffff"/>
                </a:solidFill>
                <a:latin typeface="Arial"/>
              </a:rPr>
              <a:t>NZBDS: Objectives </a:t>
            </a:r>
            <a:endParaRPr b="1" lang="en-US" sz="6000" spc="-1" strike="noStrike">
              <a:solidFill>
                <a:srgbClr val="1b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1bffff"/>
                </a:solidFill>
                <a:latin typeface="Arial"/>
              </a:rPr>
              <a:t>and Methods</a:t>
            </a:r>
            <a:endParaRPr b="1" lang="en-US" sz="60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Context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NZBDS: objectives and methods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NZBDS: key results (provisional)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ffff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ovenance of the NZBDS 200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ffff"/>
                </a:solidFill>
                <a:latin typeface="Arial"/>
              </a:rPr>
              <a:t>MRG report 2010: more needs-driven, better priority setting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ffff"/>
                </a:solidFill>
                <a:latin typeface="Arial"/>
              </a:rPr>
              <a:t>Approved by ELT and Minister of Health mid 2010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ffff"/>
                </a:solidFill>
                <a:latin typeface="Arial"/>
              </a:rPr>
              <a:t>Work commenced September 2010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ffff"/>
                </a:solidFill>
                <a:latin typeface="Arial"/>
              </a:rPr>
              <a:t>Two year time frame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ffff"/>
                </a:solidFill>
                <a:latin typeface="Arial"/>
              </a:rPr>
              <a:t>Small core team (with 1 person seconded from ACC)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ffff"/>
                </a:solidFill>
                <a:latin typeface="Arial"/>
              </a:rPr>
              <a:t>Project Advisory Group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ffff"/>
                </a:solidFill>
                <a:latin typeface="Arial"/>
              </a:rPr>
              <a:t>Clinical advisors (including advisors from ACC)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bffff"/>
                </a:solidFill>
                <a:latin typeface="Arial"/>
              </a:rPr>
              <a:t>Link to BODE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pecific objectives of NZBD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Generate an internally consistent set of epidemiological estimates for a comprehensive set of ~220 conditions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Using this database, estimate the burden of disease and injury (in DALYs) in 2006, for Maori and non-Maori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Project the burden (at condition group level) to 2011 and 2016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Estimate the burden attributable to major biological and behavioural risk factors in 2006 and project to 2016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ZBDS methodology: BD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Condition selection and classification: 16 Level I categories including Injury, 217 Level II conditions, ~600 sequelae (health states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Reference year is 2006 (in principle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YLL: redistribution of implausible and inadequately specified causes of death (5 different redistribution algorithms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YLD: data from  NZ Health Tracker where possible, other data sources where necessary (disease registers, unlinked administrative data, health survey &amp; related surveys, research studies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Prevalence approach (I x D used where D &lt; 1 year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DISMOD for incidence to prevalence modelling and consistency checking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DWs from GBDS 2004 provisionally, adjusted for independent comorbidity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Uncertainty quantified by simulation, sensitivity analysis added where necessary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Projections (trend extrapolation for YLL, fixed relational model for YLD based on compression assumption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NZBDS methodology: CR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1341360"/>
            <a:ext cx="932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Risk factor selection and classification: metabolic and physiological (SBP, TBC, FPG, BMI, 25(OH)D, osteoporosis); dietary (vegetable, fruit, sodium, saturated fat); behavioural (physical activity, tobacco use, alcohol use, illicit drug use, unsafe sex); adverse health care events; diseases as risk factors (diabetes, depression etc); injury ‘E’ codes as risk factors (eg transport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Counterfactual modelling (continuous or discrete risk factor distributions); direct estimation;  mixed model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Exposure distributions from Adult Nutrition Survey 2008/09 or other data sources (depending on the risk factor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TMREDs and HRs from GBDS or other sources (eg APCSC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Standard formula for joint risk factor distributions:   PIFc = 1 - </a:t>
            </a:r>
            <a:r>
              <a:rPr b="0" lang="el-GR" sz="1600" spc="-1" strike="noStrike">
                <a:solidFill>
                  <a:srgbClr val="1bffff"/>
                </a:solidFill>
                <a:latin typeface="Arial"/>
                <a:ea typeface="Arial"/>
              </a:rPr>
              <a:t>Π</a:t>
            </a: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(1- PIFi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Uncertainty quantification by simulation, plus sensitivty analysis where required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Projections mainly demographic (trend analysis for tobacco, TBC, BMI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1bffff"/>
                </a:solidFill>
                <a:latin typeface="Arial"/>
              </a:rPr>
              <a:t>KEY RESULTS</a:t>
            </a:r>
            <a:endParaRPr b="1" lang="en-US" sz="6000" spc="-1" strike="noStrike">
              <a:solidFill>
                <a:srgbClr val="1b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1bffff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1bffff"/>
                </a:solidFill>
                <a:latin typeface="Arial"/>
              </a:rPr>
              <a:t>(PROVISIONAL)</a:t>
            </a:r>
            <a:endParaRPr b="1" lang="en-US" sz="44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1bffff"/>
                </a:solidFill>
                <a:latin typeface="Arial"/>
              </a:rPr>
              <a:t>NEXT STEPS</a:t>
            </a:r>
            <a:endParaRPr b="1" lang="en-US" sz="60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1bffff"/>
                </a:solidFill>
                <a:latin typeface="Arial"/>
              </a:rPr>
              <a:t>Strengths and weaknesses of study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1bffff"/>
                </a:solidFill>
                <a:latin typeface="Arial"/>
              </a:rPr>
              <a:t>Policy and research applications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1bffff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Strengths of NZBD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bffff"/>
                </a:solidFill>
                <a:latin typeface="Arial"/>
              </a:rPr>
              <a:t>First to include non-hospitalised injury</a:t>
            </a: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bffff"/>
                </a:solidFill>
                <a:latin typeface="Arial"/>
              </a:rPr>
              <a:t>First to report injury burden from both a ‘cause of injury’ (E code) and a ‘nature of injury’ (N code) perspective</a:t>
            </a: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bffff"/>
                </a:solidFill>
                <a:latin typeface="Arial"/>
              </a:rPr>
              <a:t>First to include sleep disorders</a:t>
            </a: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bffff"/>
                </a:solidFill>
                <a:latin typeface="Arial"/>
              </a:rPr>
              <a:t>First to include chronic pain syndromes</a:t>
            </a: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bffff"/>
                </a:solidFill>
                <a:latin typeface="Arial"/>
              </a:rPr>
              <a:t>First to include stilbirths (albeit intrapartum only)</a:t>
            </a: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bffff"/>
                </a:solidFill>
                <a:latin typeface="Arial"/>
              </a:rPr>
              <a:t>First to include adverse health care events (albeit in-hospital only)</a:t>
            </a: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bffff"/>
                </a:solidFill>
                <a:latin typeface="Arial"/>
              </a:rPr>
              <a:t>First to make systematic use of data linkage to estimate epi parameters (mainly prevalence)</a:t>
            </a: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bffff"/>
                </a:solidFill>
                <a:latin typeface="Arial"/>
              </a:rPr>
              <a:t>Improved analysis of infant conditions and birth defects, attributing health losses to ‘correct’ age groups</a:t>
            </a: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1bffff"/>
                </a:solidFill>
                <a:latin typeface="Arial"/>
              </a:rPr>
              <a:t>Transparent assumptions underlying methods for GC redistribution, comorbidity adjustment, uncertainty quantification and burden projection</a:t>
            </a: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Weaknesses of NZBD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Reliance on ‘medical model’ –fails to capture wider welfare impacts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Does not capture clinical workload impact or health sector costs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Modelling sometimes heavily assumption driven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Not all conditions (or health states) and only selected risk factors included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Not all epi data of high quality (eg 1.6% of injury deaths were ‘unknown intent’)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Not all DWs as robust as we would like (new GBDS weights may be better)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Simulation plus sensitivity analysis may not fully capture ‘model uncertainty’ (but our method conservative)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Projections based on overly simplistic assumptions (but short-term only)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Potential policy applications for ACC and MOH </a:t>
            </a:r>
            <a:br>
              <a:rPr sz="2800"/>
            </a:b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– what DALYs tell u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Understand relative importance of injury / disease as a cause of health loss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Guide needs-based investment decisions for injury prevention (E lens) and trauma care (N lens) – both wrt services and research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And similarly for different diseases – CRA (prevention), BDS (treatment)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Understand equity issues in relation to injury / disease outcomes – and design policy accordingly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Monitor progress over time – and take corrective action accordingly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1bffff"/>
                </a:solidFill>
                <a:latin typeface="Arial"/>
              </a:rPr>
              <a:t>CONTEXT</a:t>
            </a:r>
            <a:endParaRPr b="1" lang="en-US" sz="60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What DALYs don’t tell u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DALYs do not correlate strongly with clinical workload – not very useful for workforce planning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DALYs do not correlate strongly with costs to the health care system – not very useful for short-term budgeting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Burden of disease &amp; injury studies are only one tool for  analysing need (or demand) as an input into evidence-informed policy – not a panacea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Complete analytic phase, including substitution of ‘new’ for ‘old’ DWs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Implement report writing / KT phase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Extend to regional / district level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Extend to other ethnic groups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Extend to analysis by NZDep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1bffff"/>
                </a:solidFill>
                <a:latin typeface="Arial"/>
              </a:rPr>
              <a:t>Extend to time series</a:t>
            </a:r>
            <a:endParaRPr b="1" lang="en-US" sz="20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Institutionalising the NZBDS: </a:t>
            </a:r>
            <a:br>
              <a:rPr sz="3200"/>
            </a:b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NZ" sz="2400" spc="-1" strike="noStrike">
                <a:solidFill>
                  <a:srgbClr val="ffff00"/>
                </a:solidFill>
                <a:latin typeface="Arial"/>
              </a:rPr>
              <a:t>rom initial study to ongoing information system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" y="1700280"/>
            <a:ext cx="8686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Regular updating (and progressive improvement -  including comprehensiveness of risk factors, conditions and sequelae, extension to ethnic minorities, deprivation quintiles and DHBs, time series analysis)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Substitution of Tracker indicators for other data sources to the fullest extent possible (necessary to make updating cost effective)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Stabilisation of data sources, condition selection and classification, thresholds, case definitions, condition models, modelling and statistical methods, outputs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1bffff"/>
                </a:solidFill>
                <a:latin typeface="Arial"/>
              </a:rPr>
              <a:t>Regular production of outputs (including updated epi tables and burden analyses) and application to surveillance, needs assessment, monitoring of unmet need / scope for health gain, monitoring of inequalities, inputting to CEA (priority setting - BODE) and resource allocation more genearally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MOH: Martin Tobias, Maria Turley, Terry Quirke, Ann Sears, Nadia Bartholomew, Michelle Liu, Li-Chia Yeh, Craig Wright, Anna Davies, Mishra Suryaprakash, Jane Wang, Jo Wall, Robert Templeton, Stephen Salzano, Kylie Mason, </a:t>
            </a:r>
            <a:r>
              <a:rPr b="0" lang="en-NZ" sz="1600" spc="-1" strike="noStrike">
                <a:solidFill>
                  <a:srgbClr val="ccecff"/>
                </a:solidFill>
                <a:latin typeface="Arial"/>
              </a:rPr>
              <a:t>Deepa Weerasekera, Lisa Lankshear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ACC: Zhi-Ling Zhang, John Wren, Zeeman Van Der Merwe, Charlotte Kieft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Collaborators: Don Schopflocher (University of Alberta), Barbara Hjalsted (NIPH, Denmark), Tony Blakely (BODE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More than 30 clinical  / epidemiological advisors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NZBDS Steering Group (project advisors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</a:rPr>
              <a:t>GBDS 2005 Steering Group (Chris Murray, Alan Lopez, Theo Vos, Majid Ezzati, Colin Mathers, Gretchen Stephens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1bffff"/>
                </a:solidFill>
                <a:latin typeface="Arial"/>
              </a:rPr>
              <a:t>Background to burden of disease studies (BDS)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1bffff"/>
                </a:solidFill>
                <a:latin typeface="Arial"/>
              </a:rPr>
              <a:t>The DALY metric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1bffff"/>
                </a:solidFill>
                <a:latin typeface="Arial"/>
              </a:rPr>
              <a:t>Comparative risk assessment (CRA)</a:t>
            </a: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a BDS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Standardised framework for measuring health loss (‘nonfinancial health accounts’)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Health loss estimated for a comprehensive set of disease, injury and risk factor causes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Fatal and nonfatal health losses integrated via the disability-adjusted life-year  (DALY) metric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Comprehensive and internally consistent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can you learn from a BDS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5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Estimates and projections of level and distribution of unmet need for health services (health need analysis)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Estimates of effectiveness for cost effectiveness analysis (priority setting)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Epidemiological estimates and projections for other studies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ffff"/>
                </a:solidFill>
                <a:latin typeface="Arial"/>
              </a:rPr>
              <a:t>Identification of gaps in health information system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istory of BD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Methodology developed early 1990s by Chris Murray (World Bank)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First Global Burden of Disease Study (GBDS 1990) published 1996, second in 2004 (GBDS 2000), third currently in progress (GBDS 2005)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More than 50 national BDS completed or in progress, including two Australian BDS, most recently 2003 (published 2007)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1bffff"/>
                </a:solidFill>
                <a:latin typeface="Arial"/>
              </a:rPr>
              <a:t>Previous NZBDS (1996 data, published 2001) – relied heavily on ABDS</a:t>
            </a: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DALY (disability-adjusted lifeyear) metric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686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Time based health gap measure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Gap between population’s current state of health and that of an idealised population in which everyone lives long lives free from disability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Integrates fatal with nonfatal health outcomes - combines years of life lost to untimely death (YLL) with equivalent years of healthy life lost because of time lived in health states less than full health (YLD)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Preference for nonfatal health states expressed on a 0 – 1 scale where 0 = full health and 1 = dead, 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So YLD is commensurate with YLL and the two can be summed:</a:t>
            </a: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1bffff"/>
                </a:solidFill>
                <a:latin typeface="Arial"/>
              </a:rPr>
              <a:t>DALY  =  YLL  +  YLD 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bffff"/>
                </a:solidFill>
                <a:latin typeface="Arial"/>
              </a:rPr>
              <a:t>1 DALY  =  1 year of healthy life lost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ffff"/>
                </a:solidFill>
                <a:latin typeface="Arial"/>
              </a:rPr>
              <a:t>DALY is a standardised, inverted QALY</a:t>
            </a:r>
            <a:endParaRPr b="1" lang="en-US" sz="18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L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13000"/>
            <a:ext cx="8686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Number of deaths from each cause in each subpopulation in reference year 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Multiplied by weight which varies with age but nothing else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Variation with age reflects preference to live long life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Weights are remaining life expectancies at each age taken from a reference lifetable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Reference lifetable constructed by taking lowest mortality rate at each age already achieved by any national population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Formula: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1bffff"/>
                </a:solidFill>
                <a:latin typeface="Arial"/>
              </a:rPr>
              <a:t>YLL = </a:t>
            </a:r>
            <a:r>
              <a:rPr b="1" lang="el-GR" sz="1600" spc="-1" strike="noStrike">
                <a:solidFill>
                  <a:srgbClr val="1bffff"/>
                </a:solidFill>
                <a:latin typeface="Arial"/>
                <a:ea typeface="Arial"/>
              </a:rPr>
              <a:t>Σ</a:t>
            </a:r>
            <a:r>
              <a:rPr b="1" lang="en-NZ" sz="1600" spc="-1" strike="noStrike">
                <a:solidFill>
                  <a:srgbClr val="1bffff"/>
                </a:solidFill>
                <a:latin typeface="Arial"/>
                <a:ea typeface="Arial"/>
              </a:rPr>
              <a:t> (d x w)</a:t>
            </a:r>
            <a:r>
              <a:rPr b="0" lang="en-NZ" sz="1600" spc="-1" strike="noStrike">
                <a:solidFill>
                  <a:srgbClr val="1bffff"/>
                </a:solidFill>
                <a:latin typeface="Arial"/>
                <a:ea typeface="Arial"/>
              </a:rPr>
              <a:t>     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  <a:ea typeface="Arial"/>
              </a:rPr>
              <a:t>	</a:t>
            </a:r>
            <a:r>
              <a:rPr b="0" lang="en-NZ" sz="1600" spc="-1" strike="noStrike">
                <a:solidFill>
                  <a:srgbClr val="1bffff"/>
                </a:solidFill>
                <a:latin typeface="Arial"/>
                <a:ea typeface="Arial"/>
              </a:rPr>
              <a:t>where d = count of deaths from specified cause at  specified age</a:t>
            </a:r>
            <a:r>
              <a:rPr b="0" lang="en-NZ" sz="1600" spc="-1" strike="noStrike">
                <a:solidFill>
                  <a:srgbClr val="1bffff"/>
                </a:solidFill>
                <a:latin typeface="Arial"/>
                <a:ea typeface="Arial"/>
              </a:rPr>
              <a:t>	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1bffff"/>
                </a:solidFill>
                <a:latin typeface="Arial"/>
                <a:ea typeface="Arial"/>
              </a:rPr>
              <a:t>	</a:t>
            </a:r>
            <a:r>
              <a:rPr b="0" lang="en-NZ" sz="1600" spc="-1" strike="noStrike">
                <a:solidFill>
                  <a:srgbClr val="1bffff"/>
                </a:solidFill>
                <a:latin typeface="Arial"/>
                <a:ea typeface="Arial"/>
              </a:rPr>
              <a:t>	</a:t>
            </a:r>
            <a:r>
              <a:rPr b="0" lang="en-NZ" sz="1600" spc="-1" strike="noStrike">
                <a:solidFill>
                  <a:srgbClr val="1bffff"/>
                </a:solidFill>
                <a:latin typeface="Arial"/>
                <a:ea typeface="Arial"/>
              </a:rPr>
              <a:t>w = life expectancy</a:t>
            </a:r>
            <a:r>
              <a:rPr b="0" lang="en-US" sz="1600" spc="-1" strike="noStrike">
                <a:solidFill>
                  <a:srgbClr val="1bffff"/>
                </a:solidFill>
                <a:latin typeface="Arial"/>
              </a:rPr>
              <a:t> remaining at that age (from reference lifetable)</a:t>
            </a:r>
            <a:endParaRPr b="1" lang="en-US" sz="1600" spc="-1" strike="noStrike">
              <a:solidFill>
                <a:srgbClr val="1b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01:56:02Z</dcterms:created>
  <dc:creator>Ministry of Health</dc:creator>
  <dc:description/>
  <dc:language>en-US</dc:language>
  <cp:lastModifiedBy>Emma Nuttall</cp:lastModifiedBy>
  <dcterms:modified xsi:type="dcterms:W3CDTF">2012-06-27T22:18:52Z</dcterms:modified>
  <cp:revision>623</cp:revision>
  <dc:subject/>
  <dc:title>Tobacco Policy Model</dc:title>
</cp:coreProperties>
</file>